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FCC7-5C25-4D5A-A119-41D218B8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3D9E-FC62-4D4D-BB51-C039D9A9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43F8-29B4-4688-AF67-0BB0654F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8B0C-70B1-40EE-B993-3F775CF1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A8A1-58DF-4B4C-9E29-C638DA1A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7F08-8E3A-4685-920F-29A033E3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D01E-828D-46B6-B56A-D47A3814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6CF6-F844-4F25-B2FC-7FD06D21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1BB-2A0A-4AED-896B-70DBC4EE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0F9D-134B-48CC-B4CB-529EF13A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4AD1-A954-476B-A1D0-2F03F3FD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9B97-D492-4A81-BAC1-54E6611B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B016-F2B9-4BE9-B35C-C66C2836D765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15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     Dr. Ralf Schol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tate Ulm / Aalborg (1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Ulm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41 employees are in Ulm under contrac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onsulting company works on alternatives for closing, result are promised for cw 22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negotiations on reconciliation of interest started for the case if decision persist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onditions: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No transfer or scrapping of the EMC-chamber before 2nd of Ju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works management asks for no active transfer proposals to single employees by line manag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department mangers are requested to set up plans for moving and closing down up to the 28th of May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tate Ulm / Aalborg (2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albor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evelopment effort after 1st of June will be refunded to Motorola, has to be planned as consulting cost in PMC, list of named engineers are part of the contrac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sset accounting unclear, transfer of equipment has to be handled by carve out team in a centralized wa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only a few SW-contracts (site related) will be transferre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ease agreement for remaining engineers as well as customer care, server room and storage area are under discuss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erver room, WAN/LAN connection for project finishing are under prepar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IT application data transfer will be planned cw2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ransfer plan for each function is available, has to be more detailed in some cas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oving plans Aal internal are under prepar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handover already starte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cholzR</cp:lastModifiedBy>
  <dcterms:modified xsi:type="dcterms:W3CDTF">2006-05-12T15:13:57Z</dcterms:modified>
  <cp:revision>53</cp:revision>
  <dc:subject/>
  <dc:title>PowerPoint 簡報</dc:title>
</cp:coreProperties>
</file>